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E1D-12A9-4EF1-BFDE-21FA49E7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06C-C370-4A91-9B2D-7B1B220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CCD-0502-4D60-8453-3E9D30F5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9E7-610E-4BA6-A000-48445977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2C54-FA75-44FD-A194-0E9C4F04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8610-819E-4D4B-A545-011A5BD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518-27C7-4C12-9C36-403F051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590-4FCB-41CF-B384-37C2E07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166-773F-4CAB-9224-80DD9ED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0D1A-E50C-4392-B28A-BB7FCC1D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F7AF-CEDC-47E5-8FCA-35A5FB1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F96-CD9C-4D5B-91D5-33C0F6A1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F07D-B4D3-4107-9733-BD41847E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0B5C-8523-4BBC-8BC5-60BE4AD9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81E4-F15D-46BD-B1FB-547CB8C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76C4-5F9E-4D00-939C-B3FDA681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380-6847-4AEB-AEE1-ECA93D50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74B-65AB-4E88-9EB8-B15A67E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55E-F575-4CDF-A3C2-AC8A07B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5BF-849D-4BC7-A018-8FAC9658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C10-16A9-4682-9D94-3FA1C1ED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158-69AA-4125-889D-D415330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A90-16F5-47D5-B42A-586CE96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CA6-A4CF-48EB-BC83-6E83EF1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557-7A58-448F-9855-01AE528F3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685D-9CF0-44B0-9F05-693F14DA5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9932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Helping Our ELL Students Succeed: Finding the Right Setting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tasc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702.22:Seminar in Applied Theory and Researc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Table of Contents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roblem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Related Literatur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s 4 &amp;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Hypothe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ment of Probl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number of ELL students in our schools on the rise, educators struggle to find the right setting for our students to succeed. While Bilingual education can be a great option, it is not the only successful setting for ELL students. ESL settings can yield academic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http://www.minneapolis.edu/counselingandadvising/multiculturalstudentservices/mcsslogo.gif"/>
          <p:cNvPicPr/>
          <p:nvPr/>
        </p:nvPicPr>
        <p:blipFill>
          <a:blip r:embed="rId1"/>
          <a:stretch/>
        </p:blipFill>
        <p:spPr>
          <a:xfrm>
            <a:off x="3657600" y="4419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Literature- P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ctured English Immersion: Breakthrough in Teaching Limited- English- Proficient Stud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aker, 199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Effects of Integrated Language- Based Instruction in Elementary ESL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im, 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lerating Early Academic Oral English Development in Transitional Bilingual and Structured English Immersion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rby,Lara-Acecio, Kwok, Mathes, Tong, 2008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Literature- C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s of Bilingual and English as a Second Language Adaptations of Success for All on the Reading Achievement of Students Acquiring Engl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lavin, Madde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L Programs: Not “One Size Fits All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oinsfeld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tions in Reading Achievement among Spanish Speaking Children in Different Language Programs: Explanations and Confoun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ese, Goldberg, Saunders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ement of Hypoth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R1- Implementing ESL strategies and techniques with first grade ELL students with English only instruction will yield the same or greater reading levels than with instruction in the native languag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2204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, K. ( 1998). Structured English Immersion: Breakthrough in Teaching Limited- English-Profic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h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ta Kappan, Vol. 80 (3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99-2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han, R. Wilkinson, L. Muller, C. and Frisco, M. (2009). ESL Placement and Schools: Effects on Immigra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men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dara, P., Merino, B. (1993). Measuring the Outcomes of LEP Programs: Test Scores, Exit Rates, and Other Mythological Data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icy, 23 (2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55-38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Evaluation and Policy Analysis, Vol. 15 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20-3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dara, P., Merino, B. (1993). Measuring the Outcomes of LEP Programs: Test Scores, Exit Rates,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ythological Data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Evaluation and Policy Analysis, Vol. 15 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20-33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ingsfeld, A. (2009). ELL Programs: Not “One Size Fits All”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Kappa Delta Pi Record, Vol. 45 (4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-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by, B. Lara-Acecio, R. Kwok, O. Mathes, P. Tong, F. (2008). Accelerating Early Academic Oral English Develop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itional Bilingual and Structured English Immersion Program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Educational Researc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, Vol. 45 (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 1011-10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zen, J. (2008). Teaching English Language Learners in the Content Area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view of Education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arch, Vo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78 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10-10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, Y. (2008). The Effects of Integrated Language- Based Instruction in Elementary ESL Learnin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Moder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nguage Journal. 92 (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431-451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kinen, P. Blum, I. Bisson, S. Phillips, S. Creamer, T. Baker, T. (2000). Books Access, Shar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,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Models: The Effects of Supporting the Literacy Learning of Linguistic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e Students in Sch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 Home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Educational Psychology, 92 (1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-3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se, L. Goldenberg, C. Saunders, W. (2006). Variations in Reading Achievement among Spanis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in Different Language Programs: Explanations and Confound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ementary School Journal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.106 (4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64- 3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in, R. Madden, N. ( 2000). Effects of Bilingual and English as a Second Language Adaptations of Success for 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ding Achievement of Students Acquir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lish. Journal of Education for Students Placed at Ris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4 (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393-416 Peer Reviewed from PsycInfo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Bill Ramakkan</cp:lastModifiedBy>
  <dcterms:modified xsi:type="dcterms:W3CDTF">2010-03-23T01:01:46Z</dcterms:modified>
  <cp:revision>16</cp:revision>
  <dc:subject/>
  <dc:title>Helping Our ELL Students Succeed: Finding the Right Setting</dc:title>
</cp:coreProperties>
</file>